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F597-BE71-4AC3-B029-2946B73C9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E71F-D2CD-46B9-A3E0-8A7D8768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19D6-D613-411F-BC11-BB6093D67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CB53-8EE7-4077-B77A-96932D6E7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9D08-F8F8-4116-BB30-7F32EF328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06E8-1CB0-4524-B38E-6442E9CF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146E-9AC5-444E-9AF1-56EA01BB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C61B-2915-4DA1-AD3E-AC25E90F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4CAA-C788-474D-8FD5-E66DADB4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20C4-F65F-4CE1-9CF5-6902B014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096A-2031-45CA-9CF1-9B7A8127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30EF-F52D-4049-B02F-84214D86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C6DC-9FC1-4050-94A7-C227D49A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DE07B-D229-44DA-9641-254D3BDF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03B7-B8BF-426F-8382-B8171EB9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BAF2-2E2C-4106-88A7-0D9546B9B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1085-122A-429F-A792-6C09A006A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61BE-F8B7-4314-B4F8-F25621AC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D1E8-FACF-47A1-B7DE-F6204DDA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0D36-7A49-452D-9573-171DB4CC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B924-FE9D-4026-A496-BA8E6450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4FAC-591C-4D05-BEA7-43E62C49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D443-B087-4F70-AC3A-35DB5919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7AC2-C72B-4938-9626-5641D204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5807160"/>
            <a:ext cx="10078920" cy="1754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234108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3280" y="4056120"/>
            <a:ext cx="9067680" cy="209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48000"/>
          </a:bodyPr>
          <a:p>
            <a:pPr marL="16452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4520" indent="-164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64520" indent="-164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4520" indent="-164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4520" indent="-164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4520" indent="-164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4520" indent="-16452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49BAF-449C-45AF-9845-B263ABBA4A8A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10077480" cy="941400"/>
          </a:xfrm>
          <a:prstGeom prst="rect">
            <a:avLst/>
          </a:prstGeom>
          <a:gradFill rotWithShape="0">
            <a:gsLst>
              <a:gs pos="0">
                <a:srgbClr val="dff2fc"/>
              </a:gs>
              <a:gs pos="100000">
                <a:srgbClr val="009b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620040"/>
            <a:ext cx="10077480" cy="941400"/>
          </a:xfrm>
          <a:prstGeom prst="rect">
            <a:avLst/>
          </a:prstGeom>
          <a:gradFill rotWithShape="0">
            <a:gsLst>
              <a:gs pos="0">
                <a:srgbClr val="dff2fc"/>
              </a:gs>
              <a:gs pos="100000">
                <a:srgbClr val="009b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D89F63-C539-4271-9D8C-635CE5DC2C48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7280" y="1788840"/>
            <a:ext cx="90709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6000" spc="-1" strike="noStrike">
                <a:solidFill>
                  <a:srgbClr val="006699"/>
                </a:solidFill>
                <a:latin typeface="Arial Black"/>
              </a:rPr>
              <a:t>V</a:t>
            </a:r>
            <a:r>
              <a:rPr b="0" lang="pl-PL" sz="6000" spc="-1" strike="noStrike">
                <a:solidFill>
                  <a:srgbClr val="c9211e"/>
                </a:solidFill>
                <a:latin typeface="Arial Black"/>
              </a:rPr>
              <a:t>I</a:t>
            </a:r>
            <a:r>
              <a:rPr b="0" lang="pl-PL" sz="6000" spc="-1" strike="noStrike">
                <a:solidFill>
                  <a:srgbClr val="55308d"/>
                </a:solidFill>
                <a:latin typeface="Arial Black"/>
              </a:rPr>
              <a:t>V</a:t>
            </a:r>
            <a:r>
              <a:rPr b="0" lang="pl-PL" sz="6000" spc="-1" strike="noStrike">
                <a:solidFill>
                  <a:srgbClr val="666666"/>
                </a:solidFill>
                <a:latin typeface="Arial Black"/>
              </a:rPr>
              <a:t>E</a:t>
            </a:r>
            <a:r>
              <a:rPr b="0" lang="pl-PL" sz="6000" spc="-1" strike="noStrike">
                <a:solidFill>
                  <a:srgbClr val="168253"/>
                </a:solidFill>
                <a:latin typeface="Arial Black"/>
              </a:rPr>
              <a:t>N</a:t>
            </a:r>
            <a:r>
              <a:rPr b="0" lang="pl-PL" sz="6000" spc="-1" strike="noStrike">
                <a:solidFill>
                  <a:srgbClr val="ff8000"/>
                </a:solidFill>
                <a:latin typeface="Arial Black"/>
              </a:rPr>
              <a:t>T</a:t>
            </a:r>
            <a:r>
              <a:rPr b="0" lang="pl-PL" sz="6000" spc="-1" strike="noStrike">
                <a:solidFill>
                  <a:srgbClr val="168253"/>
                </a:solidFill>
                <a:latin typeface="Arial Black"/>
              </a:rPr>
              <a:t> </a:t>
            </a:r>
            <a:br>
              <a:rPr sz="6000"/>
            </a:br>
            <a:r>
              <a:rPr b="0" lang="pl-PL" sz="6000" spc="-1" strike="noStrike">
                <a:solidFill>
                  <a:srgbClr val="c9211e"/>
                </a:solidFill>
                <a:latin typeface="Arial Black"/>
              </a:rPr>
              <a:t>L</a:t>
            </a:r>
            <a:r>
              <a:rPr b="0" lang="pl-PL" sz="6000" spc="-1" strike="noStrike">
                <a:solidFill>
                  <a:srgbClr val="ff8000"/>
                </a:solidFill>
                <a:latin typeface="Arial Black"/>
              </a:rPr>
              <a:t>E</a:t>
            </a:r>
            <a:r>
              <a:rPr b="0" lang="pl-PL" sz="6000" spc="-1" strike="noStrike">
                <a:solidFill>
                  <a:srgbClr val="2a6099"/>
                </a:solidFill>
                <a:latin typeface="Arial Black"/>
              </a:rPr>
              <a:t>S </a:t>
            </a:r>
            <a:r>
              <a:rPr b="0" lang="pl-PL" sz="6000" spc="-1" strike="noStrike">
                <a:solidFill>
                  <a:srgbClr val="395511"/>
                </a:solidFill>
                <a:latin typeface="Arial Black"/>
              </a:rPr>
              <a:t>C</a:t>
            </a:r>
            <a:r>
              <a:rPr b="0" lang="pl-PL" sz="6000" spc="-1" strike="noStrike">
                <a:solidFill>
                  <a:srgbClr val="000000"/>
                </a:solidFill>
                <a:latin typeface="Arial Black"/>
              </a:rPr>
              <a:t>O</a:t>
            </a:r>
            <a:r>
              <a:rPr b="0" lang="pl-PL" sz="6000" spc="-1" strike="noStrike">
                <a:solidFill>
                  <a:srgbClr val="ff3838"/>
                </a:solidFill>
                <a:latin typeface="Arial Black"/>
              </a:rPr>
              <a:t>U</a:t>
            </a:r>
            <a:r>
              <a:rPr b="0" lang="pl-PL" sz="6000" spc="-1" strike="noStrike">
                <a:solidFill>
                  <a:srgbClr val="55308d"/>
                </a:solidFill>
                <a:latin typeface="Arial Black"/>
              </a:rPr>
              <a:t>L</a:t>
            </a:r>
            <a:r>
              <a:rPr b="0" lang="pl-PL" sz="6000" spc="-1" strike="noStrike">
                <a:solidFill>
                  <a:srgbClr val="ec9ba4"/>
                </a:solidFill>
                <a:latin typeface="Arial Black"/>
              </a:rPr>
              <a:t>E</a:t>
            </a:r>
            <a:r>
              <a:rPr b="0" lang="pl-PL" sz="6000" spc="-1" strike="noStrike">
                <a:solidFill>
                  <a:srgbClr val="706e0c"/>
                </a:solidFill>
                <a:latin typeface="Arial Black"/>
              </a:rPr>
              <a:t>U</a:t>
            </a:r>
            <a:r>
              <a:rPr b="0" lang="pl-PL" sz="6000" spc="-1" strike="noStrike">
                <a:solidFill>
                  <a:srgbClr val="2a6099"/>
                </a:solidFill>
                <a:latin typeface="Arial Black"/>
              </a:rPr>
              <a:t>R</a:t>
            </a:r>
            <a:r>
              <a:rPr b="0" lang="pl-PL" sz="6000" spc="-1" strike="noStrike">
                <a:solidFill>
                  <a:srgbClr val="c9211e"/>
                </a:solidFill>
                <a:latin typeface="Arial Black"/>
              </a:rPr>
              <a:t>S !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635200" y="1368360"/>
            <a:ext cx="4708440" cy="454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732040" y="2533680"/>
            <a:ext cx="4179960" cy="25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879640" y="2087640"/>
            <a:ext cx="4997520" cy="36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692440" y="2139840"/>
            <a:ext cx="4794120" cy="34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600360" y="2232000"/>
            <a:ext cx="3176640" cy="32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000" y="7920"/>
            <a:ext cx="9791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c9211e"/>
                </a:solidFill>
                <a:latin typeface="Arial Black"/>
              </a:rPr>
              <a:t>DE QUELLES COULEURS SONT LES MACARONS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136836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879640" y="1012680"/>
            <a:ext cx="4135680" cy="56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20720" y="2090880"/>
            <a:ext cx="8352000" cy="36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2a6099"/>
                </a:solidFill>
                <a:latin typeface="Arial Black"/>
              </a:rPr>
              <a:t>DE QUELLES COULEURS SONT CES OBJET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2a6099"/>
                </a:solidFill>
                <a:latin typeface="Arial Black"/>
              </a:rPr>
              <a:t>EXEMPL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800" spc="-1" strike="noStrike">
                <a:solidFill>
                  <a:srgbClr val="168253"/>
                </a:solidFill>
                <a:latin typeface="Arial Black"/>
              </a:rPr>
              <a:t>Les ciseaux sont verts.  </a:t>
            </a:r>
            <a:r>
              <a:rPr b="0" lang="pl-PL" sz="2800" spc="-1" strike="noStrike">
                <a:solidFill>
                  <a:srgbClr val="168253"/>
                </a:solidFill>
                <a:latin typeface="Arial Black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191280" y="3887640"/>
            <a:ext cx="133488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952720" y="1655640"/>
            <a:ext cx="4270320" cy="42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5640" y="1768320"/>
            <a:ext cx="4213080" cy="391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311640" y="1763640"/>
            <a:ext cx="3657600" cy="42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808360" y="1655640"/>
            <a:ext cx="459576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587680" y="1584360"/>
            <a:ext cx="4684680" cy="454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311640" y="2408400"/>
            <a:ext cx="3816360" cy="3192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02T13:20:48Z</dcterms:created>
  <dc:creator/>
  <dc:description/>
  <dc:language>en-US</dc:language>
  <cp:lastModifiedBy/>
  <dcterms:modified xsi:type="dcterms:W3CDTF">2020-12-02T18:02:28Z</dcterms:modified>
  <cp:revision>3</cp:revision>
  <dc:subject/>
  <dc:title>Blue Curve</dc:title>
</cp:coreProperties>
</file>